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7D7-9FC4-47F0-A36E-703686F2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E9C-DAA2-4D73-9278-768FA8A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59B5D-1333-4B1A-8C04-CCCFC23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9A47-C44A-49A6-8B5C-F1FB865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6EF5D-D6E3-4A0A-A046-7E772FAE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AD013-E584-425E-A3EE-FCC9703F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0263C-4EBC-4DB3-BE7D-FEBE26D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D2E9F-5664-40D9-B54E-652F5B9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526A9-1210-48D1-A449-2A4C6888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EF4C-D947-4090-80DA-3AE0757C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FD083-D9E3-4DF1-8D4C-CB75EA21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E484D-6AB2-4FF1-9FD3-86DE3812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096-3647-4C1F-A177-27433CE4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24B7-7759-4C17-86B2-5AE08DC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49A25-48E9-4A4C-997C-FCD475E6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A797E-6F27-4CFC-806A-24E5C2BF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5BD43-4ABF-446D-9DEF-4AD23848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FB425-BA41-4C7F-BC45-DE05EC9C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B1245-5BED-46FA-B02E-99B2326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3CE82-48D1-4ECC-9DB7-FDB57A2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2DEE6-9A7C-4C34-9F25-1770276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29B76-15AD-492B-90B4-22DDFB54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620A9-17E6-45A4-93B3-A459B5B6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69E-4F28-419F-B000-18005124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0B83C-7284-4020-8A20-B8DB4E48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B10DC-77DC-460D-96D8-190B2327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BC1A9-E0BF-4041-97D3-DF411B8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9964-A185-48D7-8997-15A0305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3CC98-1AC7-482A-993A-A0CB1D46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19C36-A5F6-4D2B-8CDF-5B1D90E0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08D5-142D-4733-AAB7-CEFF5BD1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8FF8-09B1-4778-9A13-A88FC73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B077C-7E30-4745-B58F-C70FFAB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828C3-D7DE-483A-B532-58D34FA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324E-5913-49E0-BD58-19CFF04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8350-9143-4AE6-99B3-10949E2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E4843-B5E8-4883-A086-9C553AEF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80BAA-EA2B-4C31-9FA1-8C74EF2D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4428F-8425-41BD-94AF-E91A34DF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5D70D-C1B5-4523-B17E-DB599759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092C4-8826-45A5-B3A7-9554C59F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FE3D3-681A-4BC5-8F9A-C45B81CE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D7C1A-E8D2-4F6C-844C-8BEA6D25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56FAF-719B-46F5-8A9E-44F7ADB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AB0A3-AEF7-4946-928C-76901DBF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E2AC-B52C-42BF-B926-444CAC6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E2305-1822-49D2-A0B5-CA42889E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263FA-BF2E-4E16-900E-A68FEE6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B9D9C-C0FC-4AF2-865E-917F63CF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0E314-2C71-457D-B280-4389AB11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D1D78-9230-4914-BF25-D28E407F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BF10-E266-4DF9-808B-046CFAA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993-5865-44F1-85D0-14828A4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550-3660-4270-8EF6-E5E06C0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CEBE-C84E-4D74-99BF-F6E58B6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C44-62D3-4782-AF37-F6E018DA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179-5E31-417D-8A7A-6D4C351B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4B82-7E54-45A3-9574-6527022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0F9-DA43-41C1-BEAE-25A1EE6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D3A3-F856-493F-9AB7-90D43F5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D59D-64EE-4425-8891-4E380BCB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A20D-06D9-41FD-BA41-B95AEC61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7755-ED85-4EED-A9DC-07D2CCA8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0363-5C13-4004-87EE-92B2225D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DEA9-EB36-4779-AE5C-F1CCE87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F5DC-278A-4EC5-8F25-1941547B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E13F-0FE4-4D45-9DD7-66E2B86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1AD-C01C-4156-B233-437C799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E6CC-95BA-4BDF-8C11-3EBA8D5F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D1EB-CF53-4B92-A100-996951D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1552-CDD9-4920-BDBE-86C7D80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E31F-81D4-4718-8CD4-8CF0C83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5C85-C815-4400-B6B4-4F1C7667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AA15-A81F-468D-BBC5-82412DA4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3B44-1B9E-456B-82F8-DA1ED92D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B1A6-F050-447C-B628-385898A6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7248-4B3A-45B3-A5FA-541C3EF0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2612-3109-4886-9D3E-C211C05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19F-54D9-48C7-928C-63AA2475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112C-7DC1-4574-B600-A1793FCA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1E14-F9C3-4818-8D7A-D9449FA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A730-CA97-449E-8673-82BCF900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4CCE-0B45-49CE-A5AA-3E5BBFB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9887-03EA-48B1-B419-BCF56ADB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DEB6-304C-4461-9719-A271241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A50A-4184-47D8-A0DC-70B77F5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4EBF-1F13-4F50-B27E-3D144A22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2EB5-B702-407E-8D18-DB326451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DDC6-12B1-4D38-802E-184EA829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E23-E945-4EC1-8199-77FF7E94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408B-180D-4BD8-91D5-0BB98B86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5069-2087-4730-BB4D-431738AC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AB08-F5A6-48DF-919B-B985070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E3BA5-3F19-4419-B2A1-F9949FE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1944-3DFC-4CF9-8D40-AE8A956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96A8-36CF-4212-9086-31C745C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AFC0-45FB-4954-AEAC-422DED7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8D9A-DB18-4451-99FF-96EA265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F537-99D9-4857-A77E-27CF3CD9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1425C-BC61-4A72-95AD-B13EB7E7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F8D-1035-44C4-946B-EF1CA4F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2DE7-A6E9-4D92-A072-3B47B62D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B7B4-C11C-41E0-B7DC-B0EC29CC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A0E3-DD3E-4352-84FA-E386E68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3D73-6356-4F9C-91BE-614E7E04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E8412-20AF-4813-B9CC-9C7F1047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71FF-B152-4621-8D0F-62115CE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647C4-238D-402F-8519-F31E4391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66204-02E6-4816-9839-221626D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F1E8-68C7-461A-914C-98F8982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8C4A-0C4E-40C9-B7CD-FC252A6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84E-2757-4BF1-BBED-955384FE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44E8-62DA-4D89-AF3A-7C814355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F2E3D-B1BB-4EA3-AD89-95CD4B75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B549-55AE-43FB-BF7B-489194C0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16AF-797C-4EB3-AD55-D175B776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ED74-0625-4178-862A-C02A84C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2373F-28BD-4EC3-B878-7018898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A11EA-738C-4728-9C0B-9C675249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99BC-6234-4E2F-851D-AEDE3CCC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6E91-2488-4443-B0AA-DFE7DA69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F78C-E7B2-4CEB-A6C5-70F7978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532-FDE8-4A6C-A46F-2327AE1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B6F1-27E5-41A0-929F-F073B35F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437A5-BA12-48FD-B0C0-494E4A8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B525-C68A-49E0-8B62-112BA0E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1702-DCDA-4DFA-B8A7-96BA850C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7E9E4-DB8B-449B-AC11-E9DFDF95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414E-C6DD-433D-AB20-57C7D1BE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C96D-19B2-40B8-8E7C-74352466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79A4-E71C-450B-8811-A10084F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79706-F476-4058-909D-95B8D4E9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8520-D6BB-418C-AE36-E5322F03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0EB-66B7-4C20-A978-77185C5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4E269-A649-46B6-8425-91763C9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56366-FBD2-455D-9353-293FBE1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C973-AD3F-411D-AC20-6E73F7A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F314-7662-4993-B03F-5F1A394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02D6-9B88-4C44-98AC-3AD7CA8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26C0-5165-4471-9F80-488C5CE0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09360-0E69-46CE-ADE7-8F75E875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B6955-78E5-4B86-8DDD-7A6278BC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FB6D3-898F-4521-A7FD-1559174D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5F88-E845-4E9A-BAC5-99E75E65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8FD-5ADE-4203-83DF-62E5C82B5A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7EB0-79D3-446C-83E9-4E8D0C8945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F20-1BCF-4388-A3B2-BF4C8496D7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43C-37D1-42EF-8BB6-AE453C4D46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5C2-56CD-40BC-94D2-D53C281A71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F39C-B1EE-45FB-899D-48D9EB311A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6B17-D029-4EA5-B05B-4047F0FD7F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D985-5B00-406D-89D9-32BEA429A5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345B-6091-4FC0-8EA9-EF57257362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A08-0CBE-40CB-B627-3499393EE7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8F62-BD7D-44E4-B697-2A4965F836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9709-ECBF-4A0B-AF95-7B67387E1D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1 Od Baránkovho trón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Baránkovho tró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prýšti prú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ako krištáľ čis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š pri ňom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voj duše smä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prúdom vody ži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ýva on každý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bôľ a ra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hojivý vždy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voj duše smä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pre nás z veľkej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prameň otvoril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 neu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úžme mu z všetkých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09:41Z</dcterms:modified>
  <cp:revision>16</cp:revision>
  <dc:subject/>
  <dc:title>Je veľký náš Pán, on slávy je Kráľ Nech do všetkých strán  spev vrúcnych znie chvál.</dc:title>
</cp:coreProperties>
</file>